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974-49C0-4101-B2BA-941FE982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444-697F-4465-880B-E2B29358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6E5-C24D-4370-859D-88471DC9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EE7-1E7F-4CB7-91D1-28A76C29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3F01-ED6B-47E0-B59D-10DA8CD1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D4D6-600C-4EB4-8645-306E553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23CA-82AF-4A4C-8118-9D33E4E6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679B-1C45-4811-B5FD-E3D8A68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BA06-C27B-4B16-88CA-4C8A70CE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48B0-B41F-4BF2-9833-BDFB200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FFCB-C502-446B-A748-333904F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3AB-7039-479C-AEED-4055D98A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CF29-F049-47B5-9602-21EB866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6244-8D87-44DE-8BD9-F68867E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B7E3-B1ED-46D5-8B9D-6EEDE0F7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E824-97CB-43F1-A1CD-FC49C1AC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9D59-7FCE-45AA-98E3-5C8CC9C3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3085-42C7-47D3-A209-D32F302B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85FF-1F75-47DC-90B3-C30E0165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A5E7-6700-4974-9296-66722FBB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019A-EB0D-4E35-8B8D-E575E0B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2FD8-0964-4DB1-A356-50DFFA0F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521-A499-4C7A-A775-B5B754BE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ACCD-FC38-4EAC-8FA9-4DB5E405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3584-8C45-47CF-9CB9-55661EB0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151D-0558-411B-9A40-EE87FF6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453A-3BB0-4C04-8DEE-96F4A569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9A06-5833-4890-ABED-30FD8E4C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7C74-E4B6-471C-856B-3E7532E2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E002-9E5D-4015-88F1-3D37A94E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B0B4-2F42-46FC-9DC3-19EB2247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B2864-DF02-4B5D-8091-5B7F7802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53D4-9270-4B41-848C-1944852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C82-B11D-40C6-BFAC-1D17826E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FF43-84C8-4D3E-8EAB-41197B9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3BCB-0DDC-448F-A72B-5813F4E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DC57-2C27-445D-9D04-CF8430A1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1F50-9F00-4738-B035-7640BC1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B2E1-0DA4-4E14-9AD9-665E16A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83FF-CDE8-4014-B1B7-E2F0CCB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49519-7DDF-4651-B64C-9301E553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C540-F6BC-426F-9A0C-37A3AD9D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F262-0EEC-4E4B-A14A-ACDDAE1D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38C0-13ED-42DD-A5D7-65DF73A7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3FE-66CF-4D64-9358-1452D7A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30AE-3635-4BA8-B7C4-5173D9F8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D089-D772-42E2-AE4B-46EA4857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4535-0D63-47A5-8A50-5792DC3F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6D1D8-BC22-4B56-8772-7E1CBD2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FC3D-ECA2-4ED9-ACD4-6B55400A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E79AF-B085-4D71-8AF2-0F43057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E580-BA99-4714-B38C-1346A2AA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085E-E4D4-42D8-A3D4-B4D6CBB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10B5-8933-49BC-B7AD-2862A338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080FD-EDF1-4561-87F2-476B9A41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769-FB27-4CF6-8734-BB413AE0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FA8FD-A26B-4220-8DDC-3E0BD44E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65CA2-1314-4F0A-B40B-E8B77820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80727-B677-41EE-BEEB-5030202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7DC92-8B08-48C9-BC13-C93E7E3B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2FACF-3988-4E0D-84CC-E717D16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09A386-6A9D-42AA-BFE1-E8D3FBA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FC1DF-6E3C-456C-8F8A-02E2F13D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7D905-7FFB-4B38-8FEB-D306F67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DAFF4-3800-4355-BB12-85FAE27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42C26-8149-4654-B3C6-5144EC23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7081-5E00-4F73-9502-4949127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0AB16-8F85-4DD0-B23C-870D0FFE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22E30-4966-4B67-94B8-26F82AFF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F8144-C297-4202-AA48-068F71CE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CD6-9D5B-4198-A207-40D8AFF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A7A-B3A8-4E8D-BAF5-1754A35F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D0CC-B177-43D4-A8A7-DA9F988EAB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75E4-CC02-4BD9-9665-49DB2F516C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666-B71C-4667-A184-9A6BA9F966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77DF-EE02-411D-B01E-F657B0A9E0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3F27-A651-4651-B636-D17018599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FC2-CBAE-464B-9CA4-D0B047DBE0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attle Of Shiloh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denbaugh &amp; Kir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545160" y="3809880"/>
            <a:ext cx="2598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f5f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c984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The 2 day battle of Shiloh resulted in defeats of the confederal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Johnston's plans to rent the joining of the two armies in Tennessee were ru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Unit casualties were 13,047. 1,754 were killed.8,408 wounded. 2,885 mi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c984"/>
                </a:solidFill>
                <a:latin typeface="Arial"/>
              </a:rPr>
              <a:t>Confederate casualties 10,699.1,728 killed.8,012 wounded.959 captured or mi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50000">
              <a:srgbClr val="3366ff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exingtonrifle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arly Morning Attac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am April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Johnston army was deployed for batt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tire army was just 2mi away from the un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feds had a strategic and tactical surpri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110280" y="4654440"/>
            <a:ext cx="30337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101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ant and Sherman Ral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ere many inexperienced union soldi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led for safety to the Tennessee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 kept preparation for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 appeared every were along his lines to rally his raw recru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657600" y="5091120"/>
            <a:ext cx="1392120" cy="17668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010280" y="5243400"/>
            <a:ext cx="1324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1c1c1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w wallaces lost div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lace was sent to reinforce but didn't find Sherman's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arted walking backwards and found grants position around 6:30 or 7p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581280" y="4024440"/>
            <a:ext cx="212436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50000">
              <a:srgbClr val="ff0000"/>
            </a:gs>
            <a:gs pos="100000">
              <a:srgbClr val="1c1c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rnets n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lace's men were in a field called hornets 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eld was along the old sunken 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on got there at 9 am and 2 hrs later the confeds attac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feds had over 50 cannons and their in a blast line surrounding Wallace's troo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318440" y="0"/>
            <a:ext cx="182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7"/>
            </a:gs>
            <a:gs pos="100000">
              <a:srgbClr val="1c1c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fense at Pittsburg land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defense at Pittsburg landing was between a rock and a hard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ter the hornets nets fell the unions troops formed a 3 mile fro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209680" y="3762360"/>
            <a:ext cx="38862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"/>
              </a:rPr>
              <a:t>Evening lu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One of the bloodiest battles in u.s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The union won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April 6</a:t>
            </a:r>
            <a:r>
              <a:rPr b="0" lang="en-US" sz="3200" spc="-1" strike="noStrike" baseline="30000">
                <a:solidFill>
                  <a:srgbClr val="808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 the battle happened at 4am when back up ar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Battle, April 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he combined union armies numbered 45,0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 the first day they lost 8,5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he south width drew from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905120" y="3789360"/>
            <a:ext cx="4133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Fallen timbers April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rants army lacked the large Calvary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union lost 100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battle was placed in the forest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752480" y="3405240"/>
            <a:ext cx="53625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3:35Z</dcterms:created>
  <dc:creator>broganmkirby</dc:creator>
  <dc:description/>
  <dc:language>en-US</dc:language>
  <cp:lastModifiedBy>broganmkirby</cp:lastModifiedBy>
  <dcterms:modified xsi:type="dcterms:W3CDTF">2009-03-19T12:48:31Z</dcterms:modified>
  <cp:revision>6</cp:revision>
  <dc:subject/>
  <dc:title>Battle Of Shiloh</dc:title>
</cp:coreProperties>
</file>